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EC3-BD5C-4B1E-811B-081C4C3A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069-DC9E-4437-8CCD-30471D9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9B7-10FC-4B6E-B073-CF6E5B36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599-A8A5-4DE8-A2DA-2817236A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A0E2-6692-4DF4-BD23-BF829A1D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1DB-A395-4C0E-A3F8-4DA306D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EE81-7488-491C-BEFA-11BF63CC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8DE-9F04-4E2A-B85A-5E7268F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847-80D7-4F65-B540-B30E4A6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70C-07E3-4E30-B5AA-3E48D6AC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6AA3-94B3-4B04-829B-FAB8D09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ADA-611D-49CF-A08B-35EFC41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9D1B-F68E-47A9-9345-5FD19ED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947-B479-49D2-8AAB-4A4ACF1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BA10-C1CC-41BE-AA89-CF11126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E59-72BF-4F46-8BFF-96FFDA08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D1DB-6EE1-4EFA-95BA-BB4591BA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D69-DB81-4C91-80C0-A47562A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E57-D264-4450-BF00-AC0B3D57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A3A-096D-4D8F-854E-1891EF4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F68-9479-4CC1-B326-DF6F466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025-00D9-4D15-8EF4-0A4E4F4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D17-F259-46A7-90D3-1217E08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E8D-5719-45B3-8394-BEE885D7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B09-556A-4289-8C57-1979FFBA52E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892-61CA-4A97-838B-D9C014FA8B8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533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老 马 识 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828800"/>
            <a:ext cx="7238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：二千多年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：齐国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管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件：齐军人马被困山谷，管     仲用老马带领队伍回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144792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马识途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喻有经验的人能在生活、工作中起引导作用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81080" y="380880"/>
            <a:ext cx="4953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进成语王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438280"/>
            <a:ext cx="5638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书推荐：读成语，学    历史（上，下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功能小学生插图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19320" y="609480"/>
            <a:ext cx="6486480" cy="5716080"/>
            <a:chOff x="1219320" y="609480"/>
            <a:chExt cx="6486480" cy="5716080"/>
          </a:xfrm>
        </p:grpSpPr>
        <p:sp>
          <p:nvSpPr>
            <p:cNvPr id="201" name=""/>
            <p:cNvSpPr/>
            <p:nvPr/>
          </p:nvSpPr>
          <p:spPr>
            <a:xfrm>
              <a:off x="2895840" y="4343400"/>
              <a:ext cx="4809960" cy="10666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72428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字端正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3352680"/>
              <a:ext cx="4078440" cy="99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840" y="3657600"/>
              <a:ext cx="203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词准确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360" y="2438280"/>
              <a:ext cx="304776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560" y="26668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句通顺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1676160"/>
              <a:ext cx="20574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640" y="17524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生动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760" y="5500440"/>
              <a:ext cx="563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自 写 步 步 高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01160" y="609480"/>
              <a:ext cx="1066680" cy="1143000"/>
              <a:chOff x="6401160" y="609480"/>
              <a:chExt cx="1066680" cy="114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401160" y="609480"/>
                <a:ext cx="1066680" cy="6094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78840 h 609480"/>
                  <a:gd name="textAreaBottom" fmla="*/ 530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01160" y="6854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8487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190512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十分沉着。他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，他在雪地上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3434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最后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848720" y="601992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090" h="21600">
                <a:moveTo>
                  <a:pt x="12018" y="3985"/>
                </a:moveTo>
                <a:lnTo>
                  <a:pt x="19016" y="3985"/>
                </a:lnTo>
                <a:lnTo>
                  <a:pt x="23072" y="7484"/>
                </a:lnTo>
                <a:lnTo>
                  <a:pt x="23072" y="17615"/>
                </a:lnTo>
                <a:lnTo>
                  <a:pt x="12018" y="17615"/>
                </a:lnTo>
                <a:close/>
              </a:path>
              <a:path fill="darken" w="35090" h="21600">
                <a:moveTo>
                  <a:pt x="19016" y="3985"/>
                </a:moveTo>
                <a:lnTo>
                  <a:pt x="23072" y="7484"/>
                </a:lnTo>
                <a:lnTo>
                  <a:pt x="19016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2133720"/>
            <a:ext cx="5791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英勇善战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足智多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将士们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老马识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连词成句     组合多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着急，但他十分沉着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着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但他十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沉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1981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80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迷路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219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隆冬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0574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狂风怒号     寒气逼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积雪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505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71440" y="685800"/>
            <a:ext cx="68580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590920"/>
            <a:ext cx="6094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4382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800" y="17524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5105520"/>
            <a:ext cx="2895480" cy="642600"/>
            <a:chOff x="1219320" y="5105520"/>
            <a:chExt cx="2895480" cy="642600"/>
          </a:xfrm>
        </p:grpSpPr>
        <p:sp>
          <p:nvSpPr>
            <p:cNvPr id="162" name=""/>
            <p:cNvSpPr/>
            <p:nvPr/>
          </p:nvSpPr>
          <p:spPr>
            <a:xfrm>
              <a:off x="1219320" y="5105520"/>
              <a:ext cx="121896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隆冬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510552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积雪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191120" y="5105520"/>
            <a:ext cx="1752480" cy="642600"/>
            <a:chOff x="4191120" y="5105520"/>
            <a:chExt cx="1752480" cy="642600"/>
          </a:xfrm>
        </p:grpSpPr>
        <p:sp>
          <p:nvSpPr>
            <p:cNvPr id="166" name=""/>
            <p:cNvSpPr/>
            <p:nvPr/>
          </p:nvSpPr>
          <p:spPr>
            <a:xfrm>
              <a:off x="4724280" y="5105520"/>
              <a:ext cx="121932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迷路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52578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19920" y="4572000"/>
            <a:ext cx="2514600" cy="1477080"/>
            <a:chOff x="6019920" y="4572000"/>
            <a:chExt cx="2514600" cy="1477080"/>
          </a:xfrm>
        </p:grpSpPr>
        <p:sp>
          <p:nvSpPr>
            <p:cNvPr id="169" name=""/>
            <p:cNvSpPr/>
            <p:nvPr/>
          </p:nvSpPr>
          <p:spPr>
            <a:xfrm>
              <a:off x="6477120" y="4572000"/>
              <a:ext cx="2057400" cy="14770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狂风怒号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寒气逼人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95280" y="5257800"/>
            <a:ext cx="7848720" cy="1328400"/>
            <a:chOff x="1295280" y="5257800"/>
            <a:chExt cx="7848720" cy="1328400"/>
          </a:xfrm>
        </p:grpSpPr>
        <p:sp>
          <p:nvSpPr>
            <p:cNvPr id="172" name=""/>
            <p:cNvSpPr/>
            <p:nvPr/>
          </p:nvSpPr>
          <p:spPr>
            <a:xfrm>
              <a:off x="1295280" y="594360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惊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10480" y="5257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14600" y="5943600"/>
            <a:ext cx="1600200" cy="703440"/>
            <a:chOff x="2514600" y="5943600"/>
            <a:chExt cx="1600200" cy="703440"/>
          </a:xfrm>
        </p:grpSpPr>
        <p:sp>
          <p:nvSpPr>
            <p:cNvPr id="175" name=""/>
            <p:cNvSpPr/>
            <p:nvPr/>
          </p:nvSpPr>
          <p:spPr>
            <a:xfrm>
              <a:off x="2895480" y="5943600"/>
              <a:ext cx="1219320" cy="7034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着急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91_0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143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问题归类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666880"/>
            <a:ext cx="4648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原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表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结果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4724280"/>
            <a:ext cx="5867280" cy="1084680"/>
            <a:chOff x="1371600" y="4724280"/>
            <a:chExt cx="5867280" cy="1084680"/>
          </a:xfrm>
        </p:grpSpPr>
        <p:sp>
          <p:nvSpPr>
            <p:cNvPr id="181" name=""/>
            <p:cNvSpPr/>
            <p:nvPr/>
          </p:nvSpPr>
          <p:spPr>
            <a:xfrm>
              <a:off x="2666880" y="4724280"/>
              <a:ext cx="4572000" cy="106704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通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657600" y="3733920"/>
            <a:ext cx="3581280" cy="99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96252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读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720" y="2819520"/>
            <a:ext cx="3886200" cy="932040"/>
            <a:chOff x="3276720" y="2819520"/>
            <a:chExt cx="3886200" cy="932040"/>
          </a:xfrm>
        </p:grpSpPr>
        <p:sp>
          <p:nvSpPr>
            <p:cNvPr id="186" name=""/>
            <p:cNvSpPr/>
            <p:nvPr/>
          </p:nvSpPr>
          <p:spPr>
            <a:xfrm>
              <a:off x="4648320" y="2819520"/>
              <a:ext cx="251460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3048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好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38480" y="2057400"/>
            <a:ext cx="3048120" cy="779760"/>
            <a:chOff x="4038480" y="2057400"/>
            <a:chExt cx="3048120" cy="779760"/>
          </a:xfrm>
        </p:grpSpPr>
        <p:sp>
          <p:nvSpPr>
            <p:cNvPr id="189" name=""/>
            <p:cNvSpPr/>
            <p:nvPr/>
          </p:nvSpPr>
          <p:spPr>
            <a:xfrm>
              <a:off x="5257800" y="2057400"/>
              <a:ext cx="18288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13372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熟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90920" y="603396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自 读 步 步 高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48520" y="990720"/>
            <a:ext cx="1066680" cy="1143000"/>
            <a:chOff x="6248520" y="990720"/>
            <a:chExt cx="1066680" cy="1143000"/>
          </a:xfrm>
        </p:grpSpPr>
        <p:sp>
          <p:nvSpPr>
            <p:cNvPr id="193" name=""/>
            <p:cNvSpPr/>
            <p:nvPr/>
          </p:nvSpPr>
          <p:spPr>
            <a:xfrm>
              <a:off x="6248520" y="990720"/>
              <a:ext cx="1066680" cy="6094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10666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1905120"/>
            <a:ext cx="769608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管仲带领人马回到齐国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桓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士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亲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57200"/>
            <a:ext cx="20574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写  话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01:08:29Z</dcterms:created>
  <dc:creator>lihua</dc:creator>
  <dc:description/>
  <dc:language>en-US</dc:language>
  <cp:lastModifiedBy>SJ</cp:lastModifiedBy>
  <dcterms:modified xsi:type="dcterms:W3CDTF">2001-12-02T04:01:28Z</dcterms:modified>
  <cp:revision>6</cp:revision>
  <dc:subject/>
  <dc:title>没有幻灯片标题</dc:title>
</cp:coreProperties>
</file>